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image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925-EC81-4395-A936-0AD2618A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37E-DB59-418F-9F56-DDC5ED6E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F37-5B55-460B-9034-A24F5CE5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0AA-3649-4881-A0FC-A39080B0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02B-8558-4310-8E72-EA97973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A36-834F-47C1-8A39-BDE6BB3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6D2-0742-40C8-AAEA-CE51090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C53-F78B-432A-9A6F-8F85BE3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439-F604-4B0B-8BF0-9766B10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9C9-77D8-4948-A361-932D679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85B-69D8-4899-AF59-D102284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394-51C9-4FC1-95EA-B50B203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41A-BC62-4712-8053-CEFC6049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y Gloss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2148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y Callum Willia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elationships i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cific data that can strongly relate to oth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Tally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sic type of chart using un-complex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Frequenc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requency table is a table usually added to a tally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6f8b91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ict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type of graph that uses pictures instead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ph that uses bars to show off data, also has several vari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of the many variants of the ba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trip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K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i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ph shaped like a pie with colour key also comes in 3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Dot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lot using y &amp; x axis with dots to mark data 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tem and leaf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eans of displaying data where the data is split into two parts to show the range &amp; spread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ch\group of objects\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catter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actically the same as a dot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Box and whis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ype of plot used to show data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ne graphs are similar with connecting lines but the lines show a trend to the middl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verage answer acquired by adding up all the numbers then divided by how many ther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iddle number in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ost commo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mount from the smallest piece of data to the largest 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around the median usually seen in box and whisker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ngs that could make the result turn out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7575"/>
            </a:gs>
            <a:gs pos="50000">
              <a:srgbClr val="ff0000"/>
            </a:gs>
            <a:gs pos="100000">
              <a:srgbClr val="f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 the end of a survey you use a conclusion to some up your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or thing that lies out with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asically the same as conclusion but a little more compl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4102200"/>
          <a:ext cx="5688000" cy="26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102200"/>
                    <a:ext cx="56880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059280" y="1276200"/>
          <a:ext cx="5911560" cy="270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1276200"/>
                    <a:ext cx="591156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484360" y="3240"/>
          <a:ext cx="6659640" cy="29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40"/>
                    <a:ext cx="665964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9640" y="3451320"/>
          <a:ext cx="705672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451320"/>
                    <a:ext cx="705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course or the way it 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variate d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with multiple variants i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le to vary or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art of a number\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urve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ask questions to receive specif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atterns i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attern or consistent change 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1:19:01Z</dcterms:created>
  <dc:creator>callumwi</dc:creator>
  <dc:description/>
  <dc:language>en-US</dc:language>
  <cp:lastModifiedBy>callumwi</cp:lastModifiedBy>
  <dcterms:modified xsi:type="dcterms:W3CDTF">2010-05-31T21:25:23Z</dcterms:modified>
  <cp:revision>15</cp:revision>
  <dc:subject/>
  <dc:title>My Glossary</dc:title>
</cp:coreProperties>
</file>